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C60D-4D59-4F95-9FEA-35DC1EC12E2E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0B65-2811-4FAA-BFB1-68D2DAE1D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C6A9-BC5A-4B2E-AFD9-A29F5A35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012-B91D-4E56-B9ED-DD876802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1EF-382F-4B14-9A02-E01ED273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F66-D9D8-4F32-97E1-458DED2D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760-8787-41D7-BB58-1215A542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1644-7D1A-4181-86DD-B074504C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61AC-EA4E-4D4A-99DF-3F83FE64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D123-5A91-4B3A-A4C3-5C5EAD91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50F9-E38D-42A4-A724-EF15BED7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447-D213-4282-B9BC-FC73EF12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D4E-85DD-4D51-B090-E02F4710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378-E02F-4229-A783-8C5BAF3E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372B-4A6C-4407-B438-851D8CFEAFB2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143000" y="2571840"/>
            <a:ext cx="6643800" cy="599760"/>
            <a:chOff x="1143000" y="2571840"/>
            <a:chExt cx="6643800" cy="59976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13096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4429080" y="2590920"/>
              <a:ext cx="15145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2643120" y="2571840"/>
              <a:ext cx="17002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143000" y="2590920"/>
              <a:ext cx="14479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l Assemb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071880" y="304920"/>
              <a:ext cx="342900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pening General Assembl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ointing Committe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357120" y="1600200"/>
            <a:ext cx="8429760" cy="971640"/>
            <a:chOff x="357120" y="1600200"/>
            <a:chExt cx="84297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205416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643280" y="1600200"/>
              <a:ext cx="20163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he-IL" sz="1800" spc="-1" strike="noStrike">
                  <a:solidFill>
                    <a:srgbClr val="000000"/>
                  </a:solidFill>
                  <a:latin typeface="Calibri"/>
                </a:rPr>
                <a:t>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50020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35712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86000" y="3214800"/>
            <a:ext cx="4589280" cy="1062360"/>
            <a:chOff x="2286000" y="3214800"/>
            <a:chExt cx="4589280" cy="1062360"/>
          </a:xfrm>
        </p:grpSpPr>
        <p:sp>
          <p:nvSpPr>
            <p:cNvPr id="70" name="Text Box 24"/>
            <p:cNvSpPr/>
            <p:nvPr/>
          </p:nvSpPr>
          <p:spPr>
            <a:xfrm>
              <a:off x="3803760" y="3573360"/>
              <a:ext cx="146700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teering committe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86000" y="3214800"/>
              <a:ext cx="1428840" cy="64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071960" y="32148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143320" y="3214800"/>
              <a:ext cx="220680" cy="36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75080" y="3278160"/>
              <a:ext cx="160020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929040" y="4869000"/>
            <a:ext cx="1328760" cy="1731600"/>
            <a:chOff x="3929040" y="4869000"/>
            <a:chExt cx="1328760" cy="1731600"/>
          </a:xfrm>
        </p:grpSpPr>
        <p:sp>
          <p:nvSpPr>
            <p:cNvPr id="76" name="Text Box 30"/>
            <p:cNvSpPr/>
            <p:nvPr/>
          </p:nvSpPr>
          <p:spPr>
            <a:xfrm>
              <a:off x="3929040" y="5181480"/>
              <a:ext cx="13287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1860840"/>
            <a:chOff x="5786280" y="4724280"/>
            <a:chExt cx="3129120" cy="186084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10479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ecomes a suggestion to the National &amp; World Veid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he snif is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3960" y="4524120"/>
            <a:ext cx="2974680" cy="2061000"/>
            <a:chOff x="453960" y="4524120"/>
            <a:chExt cx="2974680" cy="206100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252900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ust be corrected by representatives of the committee and the steering committe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4120"/>
              <a:ext cx="2667240" cy="1587960"/>
            </a:xfrm>
            <a:prstGeom prst="bentConnector3">
              <a:avLst>
                <a:gd name="adj1" fmla="val -86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5:22:00Z</dcterms:created>
  <dc:creator>Ilan</dc:creator>
  <dc:description/>
  <dc:language>en-US</dc:language>
  <cp:lastModifiedBy>Ilan</cp:lastModifiedBy>
  <dcterms:modified xsi:type="dcterms:W3CDTF">2010-10-24T05:23:10Z</dcterms:modified>
  <cp:revision>1</cp:revision>
  <dc:subject/>
  <dc:title>Slide 1</dc:title>
</cp:coreProperties>
</file>